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561A-63EC-4F3B-AB06-C8845BA5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457-5827-4414-A0E0-34005745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E4D2-F120-4D6A-8D4F-76B6DB93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F1EE-D2E6-4002-9F8C-F8F96837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E648-3499-41A5-8E72-348AA3E3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E2F3-BF05-43D6-AEC5-26FF1680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8909-DE98-4F0C-87FA-6603FAF5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55FF-B20A-4949-BE2E-777F6659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1980-457C-4654-B12F-D3E59652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1E0A-FD06-4877-80CF-91468E2A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EEF7-8AAE-40F3-9EBE-02E0D7CF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25CB-2128-473E-8BD6-BB930C8B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F809-AAB9-46CC-87BB-C0859B02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E8A7-7BAB-460B-A85D-7F4E2ABF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5D6D-6785-4104-9D83-A31998D9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D756-B23D-423D-99BD-9E810445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56CC-05E1-4319-B37D-882D966C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1E7-AEBB-4393-BEFE-9D9BE6C1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987-7C77-412D-9304-06116C1B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ACD-F1B1-4DC9-A0D8-932DAB66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25C-03BF-40D7-9865-AA4352ED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83F-A085-4B3B-A5C2-9475D577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554-A08F-47D1-986C-F0ED5A7E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EF7-D10E-4924-B565-A96429E9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ACE4-6F6A-475A-94AB-A566F8C6B3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7408-50DF-4FDB-8C15-226970FC4E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CREŞTEREA ŞI DEZVOLTAREA ECONOMICĂ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2860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200" spc="-1" strike="noStrike">
                <a:solidFill>
                  <a:srgbClr val="ffffff"/>
                </a:solidFill>
                <a:latin typeface="Arial"/>
              </a:rPr>
              <a:t>Manualul de Economie, clasele a X-a şi a XI-a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, Maria Liana Lăcătuş, George-Paul Lăcătuş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7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81480" y="175248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8a3</cp:lastModifiedBy>
  <dcterms:modified xsi:type="dcterms:W3CDTF">2012-06-19T11:12:41Z</dcterms:modified>
  <cp:revision>33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